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28D1-CE68-42B6-A2E7-7D7DF8C9AF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A6C-1421-408B-96BD-4A234A59A5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0695-9678-4256-90A7-4656EC3379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E8A-E185-477F-8EC6-5555F667D7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C64-7FB8-4040-9CD8-715D4A8F61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B448-1925-43A9-BCB1-24F5BB3640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52E-0DEA-4DB2-935F-00EFA9C04C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13D-337C-413E-BF94-9BCC30B066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3144-9AE3-4202-BFA0-B4542EC1A0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629-622D-4F4C-BA25-DED3BA78E9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5BB-9F18-4227-9196-AF680320D2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293-3067-4163-8109-653E2115A2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F2B-E719-4144-B484-2E3CD1FEA3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548-C468-4E95-ACDB-359F67752F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200-E090-4161-A180-89D0E5BB39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DB0E-1960-4AB3-A1C0-55B080C88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29A3-3C51-4909-AA91-2A6B6C5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19FB-4A58-4B79-9194-A88F31D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AB55-0DD5-49C1-A3E8-6908876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2869-673D-497A-A896-EAF497E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83ED-8938-4AC8-B185-3BDFBB17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671A-0B7B-46B1-AB32-69D83899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D9A7-691C-42AA-91E6-C50C574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BDE7-3D97-4CA3-A14B-D01DE4F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FCFC-B3FD-46F5-B6DE-C66CA86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D0DC-FFDA-42A3-9C2D-1642C246B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41DE9-5BCA-4038-80B8-136E0F2BD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6B6F-B448-47FE-A3CC-A21700C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2F3F4-7A85-49C5-B4BF-C6EE8BC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59845-7141-4A2A-B16C-FF84809A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11F16-2FEC-4E52-AD78-8FEE0A3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1209B-566B-4A14-AC6B-4D6B5F8A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EFDC4-2BCE-4815-9954-8E1D83B6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D52E7-72F7-4C34-A31E-49349463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032FC-12E9-4ABA-A6DE-6411789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9510E-FBD1-4BF5-B1FE-39B84BF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DF995-B4A7-4A4D-9794-3278AE4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63D7B-B3B8-4505-8D7A-6925EFC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B6DE-C8F0-48C2-9883-FE9B3483B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9BC18-C116-4563-8941-141BB0E95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3131E-B8EF-41DE-AE96-0A69BB097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A715D6-CEE3-4836-B00E-44F4D09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A132C-0359-42DD-AA02-AF19559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74489-8C24-48F1-8FD1-1121B303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1AD78B-9876-4CAF-882A-5AFE177C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FF09F5-A7E3-4F3C-B9D7-3F9B8A85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FA47A-78F3-48A6-BD98-5F84D8D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8BC459-649D-4C1D-BDFF-A1D243F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1F7A1-F3A6-4051-AB77-8A878EDB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1B893-B876-4E1E-B9BF-8AAB0411B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5AA3AB-518D-48A4-A72E-2545CD0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423AA4-2EEE-4231-B30C-6E90246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157DC-EFC2-490A-8690-2FE11A8E6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A42E-D2CD-4299-A547-4A71E670D4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DDB97-306F-4DC4-AAD6-2CF2942E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2AAF1-EFB8-4743-B4DC-F3272C2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6ABE-700A-41A0-AC9E-45A4F5B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41E0-C931-46D5-B635-FDC7A7CA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1EB4-A361-41ED-A789-1B97CDCE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D8213-E16D-4ABC-B6BE-0DBB99A1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B657-6BC3-4242-97F9-DB4525A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71B3-5AF4-4DE6-8C11-DC739839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3D79-045E-4522-AF39-FE4A0E1E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10C5-77CE-4F60-A338-2B967CE7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20D9-7827-4FE1-B9EE-01351D7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0F9C-88C2-4D95-8A0E-4752582F2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B4E47-C800-4344-9C90-D3B6F42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791EC-5B72-4F35-8F18-0152EC8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AA851-7B95-4E48-9EA0-269608B1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E6D75-1DAD-4432-BFD9-8AD8975D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8002-E97C-4799-9B4D-576FC91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3FD6-687A-45F0-933C-ED987FA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0ED79-3F7F-46FC-9538-C245924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7E98-11B4-4508-92EA-0B349470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1B680-FFAA-4226-918B-750408B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AC741-2634-4A49-9F9D-A4290FB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13540-9196-404B-8094-EE44AA0AA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0AB-5102-4047-968D-008683CDB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873E-62CF-461A-B340-BEFCFEE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5A25-28BB-47D1-A7B9-CA9B34A3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BE6B-EF0D-4861-BE44-FBD4696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620F-7D62-4CB2-B532-5CF61AEF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BFA2-7075-40ED-A0ED-8D592A53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6970-8964-4248-AE57-83DD7F9E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024-315F-4543-8149-1490704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F07-B79F-4A39-9877-46C7B571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753-30A7-4614-8733-D175E467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7F4-F89F-4AA1-8486-56FC143E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B893-60DD-47A0-87BB-BBCF020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0145-0FC3-4943-8131-6CBAE631D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6009A-D0F0-4951-A043-8EF9CF756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FC42F-05E8-404D-A862-D7541A06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0C5E5-EB5F-4C6A-B26E-59DC6E1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34D8-8F9C-4A32-ABAC-B49319FC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0D3C-7627-4FFE-ABF6-419C5E6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ED222-6408-49CA-951B-329362C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B2809-2699-46BD-BB2F-D98C4093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A2E61-66CF-4F30-9715-BF26C4D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39DA1-F589-44CE-8EB4-5A92866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1EDAC-69B9-4DA5-9297-79DFF08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E5797-C419-4F0B-B918-398A71DB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163CE-744B-4EDC-AC49-261A507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B1F33-2B8F-4764-BAEF-C5BB55A32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5451E-6C2E-4FD2-9419-2151372B6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1970-D7D4-43BC-8DDD-13F5F14D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CCDCD-0F97-438F-9A05-7E299E94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44B4B-7AAC-4F7A-A416-3C124DDB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265A1-3326-48EC-9A24-B8C233FB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B10AE-1833-42BF-AB14-8379A054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B71C3-C394-4B80-940D-A4872BF5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B6F87-91C1-44FE-8C8F-6804D3E9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B1F46-22C8-4FD1-B270-C365C29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D80F5-83CD-4D03-A0A0-C41D8FB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B0FAA-5394-4EF0-A98B-A3644120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AA0A0-188F-4893-8EAB-62CBD96E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937E-CF8B-4C32-B99C-96840895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35411-2318-4E7B-B15D-6A0F31157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749B-C21C-4925-948D-CDB902191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F476-5CA2-4195-8E3E-D9C3430F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06B1-6D50-41FF-8015-762C283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A8E6-6FDB-458D-B91A-15C50E9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0111-8AF4-41B5-8ADD-0AFED6F9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196D-AF50-48B1-B663-A8655E62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7FB3-8D27-4319-AC4F-5906520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6571-6920-4043-8E15-839F94B7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0441-30FD-40D4-80BF-B58DE17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6762-6E02-4803-BD6E-B035FDD1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CA99-72E0-41C5-9C9F-C1EE3AD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1A6D-C695-4C44-AA43-737E65E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C98B-BFE7-4989-BCA6-C5BEB7503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F392B-B0FC-472A-A873-41AEA1AD0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67805-98EB-4BC4-A2BB-7987B49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C4DDE-8189-4CCC-8617-6A52D8CF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C0D07-5D97-4654-ADEC-AA852B79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F7CA7-8D4C-4CC1-A6A2-A4BEBA11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9531E-BBB9-4CF1-9C2A-0CD493A7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A7D10-8B67-477B-91B3-0EB44B56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F730-09EF-416C-A43F-506B540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7F7E6-B2E5-471D-BCDE-419CE450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00889-06DC-4500-A6D6-AE9D0057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4AD2D-2E1D-443F-84C1-A3D4F565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2CBF5-4F2E-4D9F-91DE-6383253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6CC6F-695E-4F68-9EA2-239119DFE3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A17FAC-1CCB-4E81-B799-3D2E725C1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3F151-BCAB-432B-897D-9EB1DAF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8E0058-1A70-4980-8FFE-7A72D96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1DDFEB-E356-4A16-AFC9-AB0AB52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500A4-5AFF-4367-A451-3561E4A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DE1E-E10C-4ECF-AF25-13E4E261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58C0C1-3FE4-4888-AFA0-DD8A19BE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C906F-D3D4-4623-98D6-E746041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AC5F4-2669-4C7B-A9D8-22D488E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91C72-5961-4328-A277-5F7C99E2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037B32-A68C-4426-B03B-D10F9A0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6BC68-5CC8-4D12-A1EF-675E255B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9FF5D3-A8AC-4C45-815E-54EA67E32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EF1E-E7C2-490A-AEB2-C32D81451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2E33-5C77-4263-BCB8-384BD5E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5AC8-C713-4976-9D35-C4B939D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3C9E-90A0-4D62-B297-78D2C62FC65D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Resultado de imagem para brasil-chile"/>
          <p:cNvPicPr/>
          <p:nvPr/>
        </p:nvPicPr>
        <p:blipFill>
          <a:blip r:embed="rId2"/>
          <a:stretch/>
        </p:blipFill>
        <p:spPr>
          <a:xfrm>
            <a:off x="4211640" y="5967360"/>
            <a:ext cx="108108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AED-033B-4E8F-A9BC-F3A2AC1D89D4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3A7-DE28-458E-968C-D2DCEA3D94A5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3000-BE1A-440C-8173-2BF20832B49D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55E6-5D5B-4D57-9DAE-7E26B1CC0D6E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6A5E-D246-433E-8135-2AC70F40B7B5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CCE-8488-481D-8DDC-A5D63AC7AD61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559C-9E52-49A9-9C3B-EBFA1B934B4E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BE5-49CC-4AE5-AF06-4B653EBB54CD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256B-4613-45C8-948B-A0589F80ACD3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6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F3A-967D-4F39-9DFE-B2E15B8E1B37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F770-943A-49D0-B1E8-C909842C9C3F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0160" y="1742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Microsoft Sans Serif"/>
              </a:rPr>
              <a:t>Sembcorp</a:t>
            </a:r>
            <a:br>
              <a:rPr sz="2800"/>
            </a:br>
            <a:r>
              <a:rPr b="0" lang="pt-BR" sz="2800" spc="-1" strike="noStrike">
                <a:solidFill>
                  <a:srgbClr val="000099"/>
                </a:solidFill>
                <a:latin typeface="Microsoft Sans Serif"/>
              </a:rPr>
              <a:t>ETE – Nueva Planta de Tratamento La Cadellada</a:t>
            </a:r>
            <a:endParaRPr b="0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Colina (R.M.), Chil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Microsoft Sans Serif"/>
              </a:rPr>
              <a:t>Terça-feira, 07 de Maio de 2019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107000" y="128736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Relatório da Missão do PNQS ao CHILE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Imagem 7" descr=""/>
          <p:cNvPicPr/>
          <p:nvPr/>
        </p:nvPicPr>
        <p:blipFill>
          <a:blip r:embed="rId1"/>
          <a:stretch/>
        </p:blipFill>
        <p:spPr>
          <a:xfrm>
            <a:off x="3995640" y="-28440"/>
            <a:ext cx="1166760" cy="1060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http://www.sembcorp.com/en/media/72953/logo.png?anchor=center&amp;mode=crop&amp;width=150&amp;height=48&amp;rnd=131981519510000000"/>
          <p:cNvPicPr/>
          <p:nvPr/>
        </p:nvPicPr>
        <p:blipFill>
          <a:blip r:embed="rId2"/>
          <a:stretch/>
        </p:blipFill>
        <p:spPr>
          <a:xfrm>
            <a:off x="6062760" y="5618160"/>
            <a:ext cx="1935000" cy="619200"/>
          </a:xfrm>
          <a:prstGeom prst="rect">
            <a:avLst/>
          </a:prstGeom>
          <a:ln w="0">
            <a:noFill/>
          </a:ln>
        </p:spPr>
      </p:pic>
      <p:pic>
        <p:nvPicPr>
          <p:cNvPr id="505" name="Imagem 3" descr=""/>
          <p:cNvPicPr/>
          <p:nvPr/>
        </p:nvPicPr>
        <p:blipFill>
          <a:blip r:embed="rId3"/>
          <a:stretch/>
        </p:blipFill>
        <p:spPr>
          <a:xfrm>
            <a:off x="1187280" y="2997360"/>
            <a:ext cx="3348360" cy="2509560"/>
          </a:xfrm>
          <a:prstGeom prst="rect">
            <a:avLst/>
          </a:prstGeom>
          <a:ln w="0">
            <a:noFill/>
          </a:ln>
        </p:spPr>
      </p:pic>
      <p:pic>
        <p:nvPicPr>
          <p:cNvPr id="506" name="Imagem 5" descr=""/>
          <p:cNvPicPr/>
          <p:nvPr/>
        </p:nvPicPr>
        <p:blipFill>
          <a:blip r:embed="rId4"/>
          <a:stretch/>
        </p:blipFill>
        <p:spPr>
          <a:xfrm>
            <a:off x="4649760" y="2997360"/>
            <a:ext cx="33480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Lições apren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59840" y="931680"/>
            <a:ext cx="4411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Qualidade da interação da planta com a diversidade ambiental e social do entorno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Em nenhum local da planta visitada exalava odor significativo de esgoto (zona residencial encostada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Capacidade de redução dos níveis de fósforo e nitrogênio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42" name="Imagem 3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0798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0160" y="1742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Microsoft Sans Serif"/>
              </a:rPr>
              <a:t>Painel de Fornecedore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Santiago, Vitacura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Microsoft Sans Serif"/>
              </a:rPr>
              <a:t>Terça-feira, 07 de Maio de 2019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107000" y="128736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Relatório da Missão do PNQS ao CHILE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Imagem 7" descr=""/>
          <p:cNvPicPr/>
          <p:nvPr/>
        </p:nvPicPr>
        <p:blipFill>
          <a:blip r:embed="rId1"/>
          <a:stretch/>
        </p:blipFill>
        <p:spPr>
          <a:xfrm>
            <a:off x="3995640" y="-28440"/>
            <a:ext cx="1166760" cy="1060200"/>
          </a:xfrm>
          <a:prstGeom prst="rect">
            <a:avLst/>
          </a:prstGeom>
          <a:ln w="0">
            <a:noFill/>
          </a:ln>
        </p:spPr>
      </p:pic>
      <p:pic>
        <p:nvPicPr>
          <p:cNvPr id="547" name="Imagem 2" descr=""/>
          <p:cNvPicPr/>
          <p:nvPr/>
        </p:nvPicPr>
        <p:blipFill>
          <a:blip r:embed="rId2"/>
          <a:stretch/>
        </p:blipFill>
        <p:spPr>
          <a:xfrm>
            <a:off x="2556000" y="2546280"/>
            <a:ext cx="4006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Apresentadores/Contatos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Inecom: Alejandro Bontes / abontes@inecon.net rreyes@seincochile.com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Wetland: Alejandra Ganter / alejandra.ganter@wetland.cl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crosoft Sans Serif"/>
              </a:rPr>
              <a:t>Alcia: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John Núñez / jnunez@grupoalcia.cl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Itron: ccm@itron.com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Valor Perce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50560" y="83808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icrosoft Sans Serif"/>
              </a:rPr>
              <a:t>Inecon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MVI: Modelos de visualização interativa. Business intelligence está transformando a forma como as informações são gerenciadas. Visão do problema inserida na ferramenta de gestão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icrosoft Sans Serif"/>
              </a:rPr>
              <a:t>Wetland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Soluções inovadoras compactas para tratamento em empreendimentos e pequenas comunidades. Inteligência probabilística do método de tratamento de esgoto (remove matéria orgânica, fósforo e nitrogênio)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icrosoft Sans Serif"/>
              </a:rPr>
              <a:t>Alcia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Prestação de serviços na área de saneamento e tecnologia de informação para aumentar faturamento e arrecadação. 47% do marketing share do Chile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icrosoft Sans Serif"/>
              </a:rPr>
              <a:t>Itron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Gestão de perdas por setorização – DMA/DMC. Reduzir a perda de água independente da etapa em que se encontra a perda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F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71"/>
          <p:cNvSpPr/>
          <p:nvPr/>
        </p:nvSpPr>
        <p:spPr>
          <a:xfrm>
            <a:off x="108000" y="5661000"/>
            <a:ext cx="88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r. Leitor, em caso de dúvida sobre esse relatório, entre em contato com algum dos relatores acim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formando os propós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Grupo 3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79280" y="1066680"/>
          <a:ext cx="8785440" cy="4307040"/>
        </p:xfrm>
        <a:graphic>
          <a:graphicData uri="http://schemas.openxmlformats.org/drawingml/2006/table">
            <a:tbl>
              <a:tblPr/>
              <a:tblGrid>
                <a:gridCol w="3384720"/>
                <a:gridCol w="2232000"/>
                <a:gridCol w="316872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4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Marlene Marreiro de Oliv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SABESP MC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mmarreiro@sabesp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Amarildo Mi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SABESP M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ammiguel@sabesp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Márcio G. Oliv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SABESP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marciogo@sabesp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Juliana Almeida Du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D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juliana@deepessoas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Adalcir Rodrigues da Sil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CORSAN/SURL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adalcir.silva@corsan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Valdênio José Hora Frei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DESO - GC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valdenio@deso-se.com.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Grupo 3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11" name="Retângulo de cantos arredondados 6"/>
          <p:cNvSpPr/>
          <p:nvPr/>
        </p:nvSpPr>
        <p:spPr>
          <a:xfrm>
            <a:off x="685800" y="6021360"/>
            <a:ext cx="7631280" cy="576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a esquerda para direita: </a:t>
            </a:r>
            <a:r>
              <a:rPr b="0" lang="pt-BR" sz="1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Adalcir, Valdênio, Juliana, Márcio, Marlene e Amaril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Imagem 3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Apresentadores/Contatos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Microsoft Sans Serif"/>
              </a:rPr>
              <a:t>Rodrigo Gonzalez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Microsoft Sans Serif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Técnico de Operação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15" name="Imagem 4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3808440" cy="5078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http://www.sembcorp.com/en/media/72953/logo.png?anchor=center&amp;mode=crop&amp;width=150&amp;height=48&amp;rnd=131981519510000000"/>
          <p:cNvPicPr/>
          <p:nvPr/>
        </p:nvPicPr>
        <p:blipFill>
          <a:blip r:embed="rId2"/>
          <a:stretch/>
        </p:blipFill>
        <p:spPr>
          <a:xfrm>
            <a:off x="1042920" y="2781360"/>
            <a:ext cx="1428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Informações sobre a organização e local vis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79280" y="958320"/>
            <a:ext cx="5113440" cy="57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Empresa subsidiária de Sembcorp, um grupo com base em Singapura, operações em nível global, no Chile desde 2010. Possui 9 plantas no Chile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planta tem como principal propósito tratar o esgoto de Colinas e Batuco. Esta planta tem uma característica muito particular que determinou seu desenho e forma de operar, pois o efluente que a planta trata desagua em um banhado que é importante pela manutenção da diversidade de fauna e flora. Isso determinou os parâmetros de redução de fósforo e nitrogênio.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construção começou em 2014, entrando em operação em junho de 2017. É a mais avançada em termos tecnológicos na América Latina. Tem capacidade para 330 l/s, na segunda fase chegará a 526 l/s. Investimento: 25 milhões de dólares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19" name="Imagem 1" descr=""/>
          <p:cNvPicPr/>
          <p:nvPr/>
        </p:nvPicPr>
        <p:blipFill>
          <a:blip r:embed="rId1"/>
          <a:stretch/>
        </p:blipFill>
        <p:spPr>
          <a:xfrm>
            <a:off x="5415120" y="1484280"/>
            <a:ext cx="3477960" cy="446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http://www.sembcorp.com/en/media/72953/logo.png?anchor=center&amp;mode=crop&amp;width=150&amp;height=48&amp;rnd=131981519510000000"/>
          <p:cNvPicPr/>
          <p:nvPr/>
        </p:nvPicPr>
        <p:blipFill>
          <a:blip r:embed="rId2"/>
          <a:stretch/>
        </p:blipFill>
        <p:spPr>
          <a:xfrm>
            <a:off x="6875640" y="689040"/>
            <a:ext cx="1935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Informações sobre a organização e local vis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0560" y="1341360"/>
            <a:ext cx="51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segurança é a prioridade número um, priorizada em todos os processos pela empresa. Há uma preocupação com a saúde das pessoas, o meio ambiente e a integridade física da organizaçã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Chove nesta região nada mais que 300mm ao ano. A planta atende a 40 mil ligações, 160 a 200 mil habitantes. Em Colina a concessão é deles e recebem na conta de água referente a 80% do volume de água. Batuco é remunerado pela municipalidade e a medição se dá de forma centralizada. Consumo médio de 20m³ a 25m³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Caso o volume de água de chuva seja alto e comprometa a qualidade do esgoto, pode ser usada uma compensação com metanol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3" name="Imagem 3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24" name="Imagem 7" descr=""/>
          <p:cNvPicPr/>
          <p:nvPr/>
        </p:nvPicPr>
        <p:blipFill>
          <a:blip r:embed="rId2"/>
          <a:stretch/>
        </p:blipFill>
        <p:spPr>
          <a:xfrm>
            <a:off x="5580000" y="1434960"/>
            <a:ext cx="3384720" cy="2538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http://www.sembcorp.com/en/media/72953/logo.png?anchor=center&amp;mode=crop&amp;width=150&amp;height=48&amp;rnd=131981519510000000"/>
          <p:cNvPicPr/>
          <p:nvPr/>
        </p:nvPicPr>
        <p:blipFill>
          <a:blip r:embed="rId3"/>
          <a:stretch/>
        </p:blipFill>
        <p:spPr>
          <a:xfrm>
            <a:off x="6875640" y="689040"/>
            <a:ext cx="1935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Informações sobre a organização e local vis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50560" y="1341360"/>
            <a:ext cx="51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planta tem um único sistema de bombeamento na chegada. Na chegada da elevatória tem um sistema de bypass de emergência e deságua na lagoa de contenção, com capacidade de reservação de 72 horas. Após a normalização do sistema a água que está na lagoa é encaminhada para tratamento.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Etapas do processo de tratamento: retirada de areia, gordura e sólidos; em seguida estanque para duas recirculações – a primeira é a externa e depois a interna.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Controle de odor: captação por meio de tubulação, que encaminha para um container com madeira de pinos como meio filtrante e bactérias que consomem o ácido sulfúrico através do processo anaeróbic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8" name="Imagem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735280" cy="3649680"/>
          </a:xfrm>
          <a:prstGeom prst="rect">
            <a:avLst/>
          </a:prstGeom>
          <a:ln w="0">
            <a:noFill/>
          </a:ln>
        </p:spPr>
      </p:pic>
      <p:pic>
        <p:nvPicPr>
          <p:cNvPr id="529" name="Imagem 6" descr=""/>
          <p:cNvPicPr/>
          <p:nvPr/>
        </p:nvPicPr>
        <p:blipFill>
          <a:blip r:embed="rId2"/>
          <a:stretch/>
        </p:blipFill>
        <p:spPr>
          <a:xfrm>
            <a:off x="5508720" y="465300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Informações sobre a organização e local vis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928440"/>
            <a:ext cx="5113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Secagem do lodo: instalação de um projeto piloto para a secagem do lodo. Sai de 75% já seco e chegam a 6% de umidade no verão, utilizando de 6 a 3 meses no processo. Hoje vai para o aterro e energia e no futuro vai para a agricultura.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Uma partícula de lodo que entra no processo demora 25 dias para sair, já digerido e estabilizado. Planta faz estabilização do lodo e ele desidratado não tem mal cheir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DBO de entrada 250mg/litro e sai 35mg/litro.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Capacidade 21mil m³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relação com a população do entorno: portas abertas para a população, coleta de fossa trazido pela municipalidade até a estaçã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Utiliza sopradores. Centrífugas de secagem de lod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CCO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32" name="Imagem 5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33" name="Imagem 3" descr=""/>
          <p:cNvPicPr/>
          <p:nvPr/>
        </p:nvPicPr>
        <p:blipFill>
          <a:blip r:embed="rId2"/>
          <a:stretch/>
        </p:blipFill>
        <p:spPr>
          <a:xfrm>
            <a:off x="5508720" y="4032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http://www.sembcorp.com/en/media/72953/logo.png?anchor=center&amp;mode=crop&amp;width=150&amp;height=48&amp;rnd=131981519510000000"/>
          <p:cNvPicPr/>
          <p:nvPr/>
        </p:nvPicPr>
        <p:blipFill>
          <a:blip r:embed="rId3"/>
          <a:stretch/>
        </p:blipFill>
        <p:spPr>
          <a:xfrm>
            <a:off x="6875640" y="689040"/>
            <a:ext cx="1935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Informações sobre a organização e local vis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79280" y="1125360"/>
            <a:ext cx="8569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Toda a operação e automatizada. 11 pessoas na equipe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Não recebe esgoto de indústria, só se for da concessão, neste caso coleta amostra e faz aprovaçã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Índices: Fósforo a normativa é de 2ppm e a estação tem uma eficiência de 0,5ppm. Nitrogênio entra com 80ppmou 90ppm e termina com 4ppmou 5ppm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A legislação chilena exige a desinfecção do efluente tratado. Nesta planta é utilizado hipoclorito de sódio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icrosoft Sans Serif"/>
              </a:rPr>
              <a:t>Possui gerador de energia backup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37" name="Imagem 2" descr=""/>
          <p:cNvPicPr/>
          <p:nvPr/>
        </p:nvPicPr>
        <p:blipFill>
          <a:blip r:embed="rId1"/>
          <a:stretch/>
        </p:blipFill>
        <p:spPr>
          <a:xfrm>
            <a:off x="6084720" y="3614760"/>
            <a:ext cx="2237040" cy="2982960"/>
          </a:xfrm>
          <a:prstGeom prst="rect">
            <a:avLst/>
          </a:prstGeom>
          <a:ln w="0">
            <a:noFill/>
          </a:ln>
        </p:spPr>
      </p:pic>
      <p:pic>
        <p:nvPicPr>
          <p:cNvPr id="538" name="Imagem 6" descr=""/>
          <p:cNvPicPr/>
          <p:nvPr/>
        </p:nvPicPr>
        <p:blipFill>
          <a:blip r:embed="rId2"/>
          <a:stretch/>
        </p:blipFill>
        <p:spPr>
          <a:xfrm>
            <a:off x="685800" y="3614760"/>
            <a:ext cx="5259240" cy="2982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http://www.sembcorp.com/en/media/72953/logo.png?anchor=center&amp;mode=crop&amp;width=150&amp;height=48&amp;rnd=131981519510000000"/>
          <p:cNvPicPr/>
          <p:nvPr/>
        </p:nvPicPr>
        <p:blipFill>
          <a:blip r:embed="rId3"/>
          <a:stretch/>
        </p:blipFill>
        <p:spPr>
          <a:xfrm>
            <a:off x="6875640" y="689040"/>
            <a:ext cx="1935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38:41Z</dcterms:created>
  <dc:creator>X</dc:creator>
  <dc:description/>
  <dc:language>en-US</dc:language>
  <cp:lastModifiedBy>Carlos Schauff</cp:lastModifiedBy>
  <dcterms:modified xsi:type="dcterms:W3CDTF">2019-05-13T13:02:37Z</dcterms:modified>
  <cp:revision>156</cp:revision>
  <dc:subject/>
  <dc:title>Apresentação do PowerPoint</dc:title>
</cp:coreProperties>
</file>