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1830-2D56-48E5-8FCB-C0E672F1A37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671B-CC43-4AD6-8F71-6B893F8947F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E54A-AF6C-4594-991B-39EDBBC8811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99C4-170D-45A5-ABB4-4D5C390F6B6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288C-241D-4FF7-B716-39FD1ED9F8E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978F-B3AF-429C-A7FC-FFDD8F54BF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1226-CF84-4722-8DBD-07EF7546D40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F91D-CCBC-46C6-A8CB-E7C964E27B8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CB98-2433-4448-BB5C-38C4CB7B65F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1167-43D9-4BA4-BE2D-A024163BC46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B741-3F25-4CF4-B0D2-F2F64EEE678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BA77-E164-4A1F-8459-AED46122103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918C-F2A0-4658-BCF4-2F1EEC7E0BC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22D5-E249-4CE0-8EC6-DE80508596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BC71-CF60-4A9E-AE7E-8C06ECC8AD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3F9B-5BF3-4149-8ACC-05C6D5AAD73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9015-E6AB-48C2-ACFE-CB988CD8DA8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A67F-5ED6-4F30-935C-D7162B3518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EC1E-6C4A-4F32-8631-72BE32E6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85D74-B60A-47D9-BF4A-9F9CD1AD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E288D-DDAB-4C8A-9757-8606C1EC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5470A-BA63-4932-8449-FC92FC7D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2F3AE-AD99-413C-B8C6-6679C825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EE844-25DB-4195-8401-FEFE8E92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EFE4B-AB50-4658-85FC-5A3C7DE5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0BE6E-3CF1-4437-8044-0D1956C0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F3D70-68E3-4086-878C-D697CF02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8E0D7-4F72-4D35-A404-FBB4916A96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C8FAB-420D-484A-AD35-47D2E5B324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4027E-A1FC-4336-BAF4-98DB8F19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8AC80-1260-4828-8FC2-1980511A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63DABE-8780-486C-9E1D-BCB71BBC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7AB463-06C7-4234-A920-1ADD6271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B5EFFA-C460-4E66-94D8-C106495E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1912CB-E6ED-40D1-9F8A-AC48D622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94B013-E067-46FD-B2F0-3149931A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B438C-E874-4792-A729-AE0F997E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3BB7C-0E68-44D4-8A52-B04199F2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8C345B-362E-4CDB-9489-90CE7354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B9F91-F8C1-444F-8747-7E92AC8B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3C88-293C-470D-A1F9-A366E6E1DA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20CAF-B408-49A1-925D-871BAE2A00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24D76C-ACE8-41E5-9220-E0359FEB8B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9F14D1-D3FA-4CA0-8B97-4F2C10B5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186AD0-BCB0-409E-BDBA-6D974C9F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B93820-A299-4038-8F5E-2C1236FB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C74FBA-E14F-447B-8DEB-EC179AB1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72C7A6-EAD6-4013-AC44-FD76CBA2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816C83-F6D3-4AE1-A789-0B6734B2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207B0E-4DB1-4CBD-BEA5-CBAD7DC6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0D36DC-7C8B-4AE3-85A3-75BD1B1F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FE778-A3B7-4464-81BD-6B61675B02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740F24-4FBE-458B-AFC1-666D3B3A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3E06FE-B31A-42EE-9767-B159BD9E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77A462-6C29-4A83-9C0D-F634A2FF3D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4F223-F2AC-472D-9810-93F3FFF8EC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B3F2B-B807-465E-87C4-0A4FAEDA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58A47-DF28-4C9E-9401-6354E759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544AF-941F-4B90-960E-D8082773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11AD2-7750-4921-9A08-07B061CE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2B1DA-4368-435A-ADB0-C8947647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34AAC-28DF-4336-97C9-FC7F85AF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D54FC-0520-4382-957E-4DAC63E4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5266F-D8AC-4E46-85FA-81F6FCAC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1224C-C616-4157-8A66-9BF18C53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515F4-11AE-4A46-95AF-3868944E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A66CA-5B75-428F-B16F-BABC6E98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2AAAC-2DE0-4D7B-9169-5F59D3C752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91E61-B617-41B0-BB0E-289A1A96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47871-FCE2-4B0B-BBB7-B83C7983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8CFE7-E41E-4227-B46D-3156FCD6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DE544-2C58-42BC-968F-2D9AA4A3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BF231-EBA6-48CF-909E-FDD4A9DC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CF44A-38D6-4A57-B9B2-7687F856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8EE08-DA90-46A3-BBC2-C3C04603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CBDE7-D800-48B3-AF0F-618DE60D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598F4-06DA-4162-8BC3-C1D761EA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2ABCA-7B60-4D28-A28F-99B61A3A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77F9A-B13F-4DD4-874B-C98F97432A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8A6F-83EE-4420-8916-0A7CB8FD4C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21E9-EA11-4E6F-8191-C8D8F8B0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A87F-F2D2-4B88-8A0C-BDEC11D5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15CF-FA15-4679-ADA1-7061DC74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B685-71C9-4819-8617-C3D56933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0099-52F3-4C34-8F2B-913EB6AA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D940-01E8-4D51-8A95-03425199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F795-C3D3-41FF-8D7E-75026ADE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F933-DF83-427E-BB91-C0A037A1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58B5-B7F2-463A-8254-DA697020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D377-1F14-4E7A-B4FC-570B5D5A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A170-2B60-488F-BB2F-5966295F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6694-30EA-4279-86D9-9245402B4A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749ED-1871-4E5D-8B95-F1E4732F33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AF7CF-8FFA-43C2-A8CD-099CC785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C5E8A-22CA-4B01-B005-31066400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AAAFF-40B0-4B47-B9AC-2DD583CB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DE362-4269-4E0E-8D95-C80FA82A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97EBB-63B4-4A8B-97AD-1EB6E5C9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B1B5E-B9ED-442B-815C-552B9C66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68514-54B2-400B-B5B7-00E11C8B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FEE1B-B70E-45FC-B69F-F0DC2A3B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C429A-6175-4978-8394-2A6A5D81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C7A85-9EAD-4B25-B7C8-FE8523A2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E0BA8-FE28-403A-A8F7-39C2491A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1C847-7F5D-4CF4-B172-E761515020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188006-7AC8-43F7-991B-134EE03735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0CE4-3D27-4AA9-9EDF-B021F5F0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394276-049E-44E1-897A-022EB478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BFF9F7-6AFF-4B31-885E-C42A65CF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020F6B-DB91-42C1-B214-9AAC76C7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205DE3-8A96-4DBE-8627-7399639D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71B0FA-BDA9-4F9E-BFF0-0A77FBD7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39A17B-B2ED-4E9A-BAD1-C25565D5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256C09-B77F-4BE2-9191-51060CBD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F5F0E1-FDF2-4B91-AC10-EED4D2F0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8D09E-37DC-449F-920B-BC48BEFC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E8DD4C-F778-4FC2-96FC-E3D0B5BD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43B2-C0C8-4540-B290-F190994F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BF0D50-76ED-4646-A6B2-196D863F97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ECE3C-24E5-4C31-A1F3-50BAB8083C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EF63D-0F0C-4A02-96CC-60A97FA5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DD49D-B525-4F13-B57A-35F87418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0C559-4F82-4F85-AE2B-E7BE0105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F10B8-395C-4D6C-A322-075EE5C5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7ABFE-F124-4473-BEC7-689581AD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D7EBC-3B53-4346-AAD9-5289552B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EF018-738F-4BEB-8972-EBB7C773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DB4D-4DD9-4619-8151-6379B96E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E152A-05B2-4308-9E52-A048172F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CCE1A-6922-46E9-ABCE-F7D17977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0E234-1D12-410B-9C24-14F04D12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A88A6-A5BF-452F-81E2-30C0C69EF6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8C099-2ACA-4A84-BBBB-6DD326DEA1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BD5910-9089-47A8-9827-A18D2725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29EC3-70E6-4C8F-8C8F-381F4A02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7EF19-9EF2-4A6E-ACE9-E29CED16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AA069-DE22-479C-8D80-59063A72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CABDE-7AA8-470E-AB92-0FFEADD2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00F39-700B-455C-A0A3-27705D31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FBEA-D118-462B-A57A-0EDD4173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AB1E5-5942-4885-9754-66CC5D38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67F95-0AFD-4886-A167-1D48A371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EF473-B735-4555-95D2-8D24C978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91E49-6934-487B-9C02-637DC52A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3DFB1-45B3-41E1-A5B8-2DC2073247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6652CD-673D-4C1F-BA71-E03DC92FB1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D7687E-6DB4-4D66-B97A-AFE1984B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1D5D1C-350B-440B-9440-13C35D8C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F5097C-3494-415A-8F92-C1D0B8C0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31851F-3028-448F-99BD-B85E700B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20C8E-AA80-4B49-8465-527CE88A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91011A-2BDD-4EA2-903C-44DA5B43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D1AED0-03DA-405E-90E5-A86A31C9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A1CEC1-9509-45FD-A972-40F4B2A1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619218-A546-4E7A-BF89-2BCD258C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A68BDC-910F-46A8-978B-DA8DB36D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4624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52C9F6-81D6-42A9-948D-1515004C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6492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447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EAE1BA-91B9-4961-BC6C-4E67E4BF1E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0B79A-0094-4FB9-84B3-BDCE1633BF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C3A3A-435E-42B3-A476-5407C27B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AB7C2-1D24-41F9-82C8-CD33833F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7E65-6A14-4DA4-B23E-FCACC5E7ECD1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Resultado de imagem para brasil-chile"/>
          <p:cNvPicPr/>
          <p:nvPr/>
        </p:nvPicPr>
        <p:blipFill>
          <a:blip r:embed="rId2"/>
          <a:stretch/>
        </p:blipFill>
        <p:spPr>
          <a:xfrm>
            <a:off x="4211640" y="5967360"/>
            <a:ext cx="1081080" cy="7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9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0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2CDE-1A9F-4607-A5A8-3C0C593E73CB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2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DB98-0859-4EDB-9BDB-AB26017A09AD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4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9A2B-58F0-4679-953E-3E611C18B246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4C67-0D95-4CFE-8B55-74C42178F1A5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4BA7-DCAB-4378-A920-931387788956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3358-8DEC-4CBA-ABDC-FE84B7E02C7E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9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0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8C3B-58D1-4231-814B-8E9C29D274FC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2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CBF2-7DB5-4642-BE9D-4996F01E5691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4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C6A9-66A8-40ED-B7BC-12192CF1EB42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5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6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4974-21D0-4E96-B2EA-AA69A4D62DBB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reeform 8"/>
          <p:cNvSpPr/>
          <p:nvPr/>
        </p:nvSpPr>
        <p:spPr>
          <a:xfrm>
            <a:off x="76320" y="76320"/>
            <a:ext cx="8915400" cy="6705360"/>
          </a:xfrm>
          <a:custGeom>
            <a:avLst/>
            <a:gdLst/>
            <a:ahLst/>
            <a:rect l="l" t="t" r="r" b="b"/>
            <a:pathLst>
              <a:path w="7254" h="4709">
                <a:moveTo>
                  <a:pt x="2592" y="872"/>
                </a:moveTo>
                <a:cubicBezTo>
                  <a:pt x="2808" y="884"/>
                  <a:pt x="3022" y="873"/>
                  <a:pt x="3238" y="856"/>
                </a:cubicBezTo>
                <a:cubicBezTo>
                  <a:pt x="3671" y="864"/>
                  <a:pt x="4105" y="875"/>
                  <a:pt x="4538" y="887"/>
                </a:cubicBezTo>
                <a:cubicBezTo>
                  <a:pt x="4776" y="909"/>
                  <a:pt x="4986" y="935"/>
                  <a:pt x="5223" y="942"/>
                </a:cubicBezTo>
                <a:cubicBezTo>
                  <a:pt x="5411" y="966"/>
                  <a:pt x="5602" y="967"/>
                  <a:pt x="5791" y="973"/>
                </a:cubicBezTo>
                <a:cubicBezTo>
                  <a:pt x="5890" y="981"/>
                  <a:pt x="5988" y="988"/>
                  <a:pt x="6087" y="996"/>
                </a:cubicBezTo>
                <a:cubicBezTo>
                  <a:pt x="6171" y="1003"/>
                  <a:pt x="6252" y="1038"/>
                  <a:pt x="6336" y="1043"/>
                </a:cubicBezTo>
                <a:cubicBezTo>
                  <a:pt x="6442" y="1049"/>
                  <a:pt x="6549" y="1048"/>
                  <a:pt x="6655" y="1051"/>
                </a:cubicBezTo>
                <a:cubicBezTo>
                  <a:pt x="6769" y="1058"/>
                  <a:pt x="6883" y="1065"/>
                  <a:pt x="6997" y="1074"/>
                </a:cubicBezTo>
                <a:cubicBezTo>
                  <a:pt x="7080" y="1102"/>
                  <a:pt x="7166" y="1094"/>
                  <a:pt x="7254" y="1098"/>
                </a:cubicBezTo>
                <a:cubicBezTo>
                  <a:pt x="7225" y="1105"/>
                  <a:pt x="7198" y="1114"/>
                  <a:pt x="7169" y="1121"/>
                </a:cubicBezTo>
                <a:cubicBezTo>
                  <a:pt x="6827" y="1594"/>
                  <a:pt x="6430" y="2026"/>
                  <a:pt x="6118" y="2522"/>
                </a:cubicBezTo>
                <a:cubicBezTo>
                  <a:pt x="6044" y="2764"/>
                  <a:pt x="5871" y="3035"/>
                  <a:pt x="5752" y="3262"/>
                </a:cubicBezTo>
                <a:cubicBezTo>
                  <a:pt x="5700" y="3361"/>
                  <a:pt x="5624" y="3491"/>
                  <a:pt x="5581" y="3596"/>
                </a:cubicBezTo>
                <a:cubicBezTo>
                  <a:pt x="5521" y="3741"/>
                  <a:pt x="5584" y="3643"/>
                  <a:pt x="5503" y="3752"/>
                </a:cubicBezTo>
                <a:cubicBezTo>
                  <a:pt x="5485" y="3803"/>
                  <a:pt x="5463" y="3862"/>
                  <a:pt x="5417" y="3892"/>
                </a:cubicBezTo>
                <a:cubicBezTo>
                  <a:pt x="5401" y="3754"/>
                  <a:pt x="5308" y="3603"/>
                  <a:pt x="5238" y="3487"/>
                </a:cubicBezTo>
                <a:cubicBezTo>
                  <a:pt x="5170" y="3374"/>
                  <a:pt x="5118" y="3249"/>
                  <a:pt x="5036" y="3145"/>
                </a:cubicBezTo>
                <a:cubicBezTo>
                  <a:pt x="4971" y="3064"/>
                  <a:pt x="4914" y="2959"/>
                  <a:pt x="4872" y="2865"/>
                </a:cubicBezTo>
                <a:cubicBezTo>
                  <a:pt x="4783" y="2666"/>
                  <a:pt x="4721" y="2385"/>
                  <a:pt x="4475" y="2335"/>
                </a:cubicBezTo>
                <a:cubicBezTo>
                  <a:pt x="4374" y="2355"/>
                  <a:pt x="4312" y="2363"/>
                  <a:pt x="4226" y="2405"/>
                </a:cubicBezTo>
                <a:cubicBezTo>
                  <a:pt x="4181" y="2477"/>
                  <a:pt x="4110" y="2515"/>
                  <a:pt x="4071" y="2592"/>
                </a:cubicBezTo>
                <a:cubicBezTo>
                  <a:pt x="4021" y="2692"/>
                  <a:pt x="3984" y="2801"/>
                  <a:pt x="3938" y="2903"/>
                </a:cubicBezTo>
                <a:cubicBezTo>
                  <a:pt x="3851" y="3095"/>
                  <a:pt x="3751" y="3284"/>
                  <a:pt x="3642" y="3464"/>
                </a:cubicBezTo>
                <a:cubicBezTo>
                  <a:pt x="3414" y="3842"/>
                  <a:pt x="3160" y="4062"/>
                  <a:pt x="2802" y="4328"/>
                </a:cubicBezTo>
                <a:cubicBezTo>
                  <a:pt x="2591" y="4484"/>
                  <a:pt x="2355" y="4635"/>
                  <a:pt x="2101" y="4709"/>
                </a:cubicBezTo>
                <a:cubicBezTo>
                  <a:pt x="2007" y="4695"/>
                  <a:pt x="2037" y="4705"/>
                  <a:pt x="1907" y="4616"/>
                </a:cubicBezTo>
                <a:cubicBezTo>
                  <a:pt x="1873" y="4593"/>
                  <a:pt x="1805" y="4546"/>
                  <a:pt x="1805" y="4546"/>
                </a:cubicBezTo>
                <a:cubicBezTo>
                  <a:pt x="1773" y="4440"/>
                  <a:pt x="1736" y="4347"/>
                  <a:pt x="1704" y="4235"/>
                </a:cubicBezTo>
                <a:cubicBezTo>
                  <a:pt x="1668" y="4110"/>
                  <a:pt x="1644" y="3932"/>
                  <a:pt x="1619" y="3806"/>
                </a:cubicBezTo>
                <a:cubicBezTo>
                  <a:pt x="1595" y="3527"/>
                  <a:pt x="1502" y="3262"/>
                  <a:pt x="1447" y="2989"/>
                </a:cubicBezTo>
                <a:cubicBezTo>
                  <a:pt x="1426" y="2886"/>
                  <a:pt x="1414" y="2781"/>
                  <a:pt x="1393" y="2678"/>
                </a:cubicBezTo>
                <a:cubicBezTo>
                  <a:pt x="1344" y="2437"/>
                  <a:pt x="1237" y="2197"/>
                  <a:pt x="1105" y="1993"/>
                </a:cubicBezTo>
                <a:cubicBezTo>
                  <a:pt x="1028" y="1874"/>
                  <a:pt x="954" y="1773"/>
                  <a:pt x="825" y="1705"/>
                </a:cubicBezTo>
                <a:cubicBezTo>
                  <a:pt x="708" y="1643"/>
                  <a:pt x="588" y="1628"/>
                  <a:pt x="459" y="1619"/>
                </a:cubicBezTo>
                <a:cubicBezTo>
                  <a:pt x="350" y="1633"/>
                  <a:pt x="255" y="1657"/>
                  <a:pt x="155" y="1705"/>
                </a:cubicBezTo>
                <a:cubicBezTo>
                  <a:pt x="76" y="1743"/>
                  <a:pt x="69" y="1765"/>
                  <a:pt x="0" y="1783"/>
                </a:cubicBezTo>
                <a:cubicBezTo>
                  <a:pt x="35" y="1709"/>
                  <a:pt x="334" y="1607"/>
                  <a:pt x="342" y="1604"/>
                </a:cubicBezTo>
                <a:cubicBezTo>
                  <a:pt x="531" y="1539"/>
                  <a:pt x="738" y="1547"/>
                  <a:pt x="934" y="1510"/>
                </a:cubicBezTo>
                <a:cubicBezTo>
                  <a:pt x="1095" y="1480"/>
                  <a:pt x="1255" y="1441"/>
                  <a:pt x="1416" y="1409"/>
                </a:cubicBezTo>
                <a:cubicBezTo>
                  <a:pt x="2300" y="1233"/>
                  <a:pt x="3198" y="1168"/>
                  <a:pt x="4086" y="1028"/>
                </a:cubicBezTo>
                <a:cubicBezTo>
                  <a:pt x="4393" y="980"/>
                  <a:pt x="4690" y="912"/>
                  <a:pt x="4997" y="872"/>
                </a:cubicBezTo>
                <a:cubicBezTo>
                  <a:pt x="5019" y="827"/>
                  <a:pt x="5027" y="777"/>
                  <a:pt x="5051" y="732"/>
                </a:cubicBezTo>
                <a:cubicBezTo>
                  <a:pt x="5065" y="705"/>
                  <a:pt x="5085" y="681"/>
                  <a:pt x="5098" y="654"/>
                </a:cubicBezTo>
                <a:cubicBezTo>
                  <a:pt x="5156" y="532"/>
                  <a:pt x="5097" y="600"/>
                  <a:pt x="5160" y="537"/>
                </a:cubicBezTo>
                <a:cubicBezTo>
                  <a:pt x="5227" y="335"/>
                  <a:pt x="5156" y="560"/>
                  <a:pt x="5215" y="335"/>
                </a:cubicBezTo>
                <a:cubicBezTo>
                  <a:pt x="5221" y="311"/>
                  <a:pt x="5230" y="288"/>
                  <a:pt x="5238" y="265"/>
                </a:cubicBezTo>
                <a:cubicBezTo>
                  <a:pt x="5241" y="257"/>
                  <a:pt x="5250" y="233"/>
                  <a:pt x="5246" y="241"/>
                </a:cubicBezTo>
                <a:cubicBezTo>
                  <a:pt x="5241" y="252"/>
                  <a:pt x="5235" y="262"/>
                  <a:pt x="5230" y="273"/>
                </a:cubicBezTo>
                <a:cubicBezTo>
                  <a:pt x="5178" y="643"/>
                  <a:pt x="5084" y="924"/>
                  <a:pt x="4973" y="1316"/>
                </a:cubicBezTo>
                <a:cubicBezTo>
                  <a:pt x="4855" y="1736"/>
                  <a:pt x="4738" y="2156"/>
                  <a:pt x="4600" y="2569"/>
                </a:cubicBezTo>
                <a:cubicBezTo>
                  <a:pt x="4651" y="2715"/>
                  <a:pt x="4598" y="2957"/>
                  <a:pt x="4569" y="3114"/>
                </a:cubicBezTo>
                <a:cubicBezTo>
                  <a:pt x="4561" y="3261"/>
                  <a:pt x="4554" y="3414"/>
                  <a:pt x="4475" y="3542"/>
                </a:cubicBezTo>
                <a:cubicBezTo>
                  <a:pt x="4467" y="3567"/>
                  <a:pt x="4432" y="3636"/>
                  <a:pt x="4413" y="3651"/>
                </a:cubicBezTo>
                <a:cubicBezTo>
                  <a:pt x="4380" y="3678"/>
                  <a:pt x="4304" y="3721"/>
                  <a:pt x="4304" y="3721"/>
                </a:cubicBezTo>
                <a:cubicBezTo>
                  <a:pt x="4296" y="3731"/>
                  <a:pt x="4294" y="3750"/>
                  <a:pt x="4281" y="3752"/>
                </a:cubicBezTo>
                <a:cubicBezTo>
                  <a:pt x="4266" y="3754"/>
                  <a:pt x="4252" y="3741"/>
                  <a:pt x="4242" y="3729"/>
                </a:cubicBezTo>
                <a:cubicBezTo>
                  <a:pt x="4225" y="3709"/>
                  <a:pt x="4218" y="3681"/>
                  <a:pt x="4203" y="3659"/>
                </a:cubicBezTo>
                <a:cubicBezTo>
                  <a:pt x="4176" y="3619"/>
                  <a:pt x="4146" y="3581"/>
                  <a:pt x="4117" y="3542"/>
                </a:cubicBezTo>
                <a:cubicBezTo>
                  <a:pt x="4062" y="3392"/>
                  <a:pt x="4124" y="3548"/>
                  <a:pt x="3969" y="3285"/>
                </a:cubicBezTo>
                <a:cubicBezTo>
                  <a:pt x="3819" y="3032"/>
                  <a:pt x="3693" y="2725"/>
                  <a:pt x="3572" y="2460"/>
                </a:cubicBezTo>
                <a:cubicBezTo>
                  <a:pt x="3420" y="2128"/>
                  <a:pt x="3281" y="1794"/>
                  <a:pt x="3144" y="1456"/>
                </a:cubicBezTo>
                <a:cubicBezTo>
                  <a:pt x="3023" y="1158"/>
                  <a:pt x="2914" y="845"/>
                  <a:pt x="2724" y="584"/>
                </a:cubicBezTo>
                <a:cubicBezTo>
                  <a:pt x="2685" y="531"/>
                  <a:pt x="2654" y="473"/>
                  <a:pt x="2615" y="420"/>
                </a:cubicBezTo>
                <a:cubicBezTo>
                  <a:pt x="2570" y="360"/>
                  <a:pt x="2501" y="322"/>
                  <a:pt x="2444" y="273"/>
                </a:cubicBezTo>
                <a:cubicBezTo>
                  <a:pt x="2339" y="183"/>
                  <a:pt x="2188" y="87"/>
                  <a:pt x="2047" y="55"/>
                </a:cubicBezTo>
                <a:cubicBezTo>
                  <a:pt x="1989" y="16"/>
                  <a:pt x="1920" y="9"/>
                  <a:pt x="1852" y="0"/>
                </a:cubicBezTo>
                <a:cubicBezTo>
                  <a:pt x="1839" y="3"/>
                  <a:pt x="1826" y="4"/>
                  <a:pt x="1813" y="8"/>
                </a:cubicBezTo>
                <a:cubicBezTo>
                  <a:pt x="1792" y="14"/>
                  <a:pt x="1751" y="31"/>
                  <a:pt x="1751" y="31"/>
                </a:cubicBezTo>
                <a:cubicBezTo>
                  <a:pt x="1711" y="71"/>
                  <a:pt x="1666" y="86"/>
                  <a:pt x="1626" y="125"/>
                </a:cubicBezTo>
                <a:cubicBezTo>
                  <a:pt x="1611" y="210"/>
                  <a:pt x="1577" y="300"/>
                  <a:pt x="1549" y="382"/>
                </a:cubicBezTo>
                <a:cubicBezTo>
                  <a:pt x="1529" y="440"/>
                  <a:pt x="1510" y="534"/>
                  <a:pt x="1455" y="568"/>
                </a:cubicBezTo>
                <a:cubicBezTo>
                  <a:pt x="1366" y="718"/>
                  <a:pt x="1122" y="710"/>
                  <a:pt x="973" y="724"/>
                </a:cubicBezTo>
                <a:cubicBezTo>
                  <a:pt x="894" y="744"/>
                  <a:pt x="819" y="757"/>
                  <a:pt x="739" y="771"/>
                </a:cubicBezTo>
                <a:cubicBezTo>
                  <a:pt x="710" y="784"/>
                  <a:pt x="683" y="799"/>
                  <a:pt x="653" y="810"/>
                </a:cubicBezTo>
                <a:cubicBezTo>
                  <a:pt x="641" y="814"/>
                  <a:pt x="620" y="805"/>
                  <a:pt x="615" y="817"/>
                </a:cubicBezTo>
                <a:cubicBezTo>
                  <a:pt x="610" y="827"/>
                  <a:pt x="635" y="824"/>
                  <a:pt x="646" y="825"/>
                </a:cubicBezTo>
                <a:cubicBezTo>
                  <a:pt x="726" y="834"/>
                  <a:pt x="806" y="843"/>
                  <a:pt x="887" y="849"/>
                </a:cubicBezTo>
                <a:cubicBezTo>
                  <a:pt x="986" y="856"/>
                  <a:pt x="1084" y="859"/>
                  <a:pt x="1183" y="864"/>
                </a:cubicBezTo>
                <a:cubicBezTo>
                  <a:pt x="1204" y="867"/>
                  <a:pt x="1224" y="870"/>
                  <a:pt x="1245" y="872"/>
                </a:cubicBezTo>
                <a:cubicBezTo>
                  <a:pt x="1300" y="878"/>
                  <a:pt x="1355" y="880"/>
                  <a:pt x="1409" y="887"/>
                </a:cubicBezTo>
                <a:cubicBezTo>
                  <a:pt x="1458" y="893"/>
                  <a:pt x="1556" y="911"/>
                  <a:pt x="1556" y="911"/>
                </a:cubicBezTo>
                <a:cubicBezTo>
                  <a:pt x="1840" y="1011"/>
                  <a:pt x="2099" y="1137"/>
                  <a:pt x="2397" y="1207"/>
                </a:cubicBezTo>
                <a:cubicBezTo>
                  <a:pt x="2592" y="1253"/>
                  <a:pt x="2796" y="1238"/>
                  <a:pt x="2996" y="1253"/>
                </a:cubicBezTo>
                <a:cubicBezTo>
                  <a:pt x="3217" y="1269"/>
                  <a:pt x="3437" y="1284"/>
                  <a:pt x="3658" y="1300"/>
                </a:cubicBezTo>
                <a:cubicBezTo>
                  <a:pt x="4013" y="1381"/>
                  <a:pt x="4378" y="1431"/>
                  <a:pt x="4740" y="1463"/>
                </a:cubicBezTo>
                <a:cubicBezTo>
                  <a:pt x="4821" y="1484"/>
                  <a:pt x="4914" y="1511"/>
                  <a:pt x="4981" y="1565"/>
                </a:cubicBezTo>
                <a:cubicBezTo>
                  <a:pt x="5015" y="1593"/>
                  <a:pt x="5044" y="1627"/>
                  <a:pt x="5075" y="1658"/>
                </a:cubicBezTo>
                <a:cubicBezTo>
                  <a:pt x="5088" y="1671"/>
                  <a:pt x="5114" y="1697"/>
                  <a:pt x="5114" y="1697"/>
                </a:cubicBezTo>
                <a:cubicBezTo>
                  <a:pt x="5209" y="1889"/>
                  <a:pt x="5176" y="1797"/>
                  <a:pt x="5223" y="1969"/>
                </a:cubicBezTo>
                <a:cubicBezTo>
                  <a:pt x="5242" y="2123"/>
                  <a:pt x="5246" y="2243"/>
                  <a:pt x="5223" y="2398"/>
                </a:cubicBezTo>
                <a:cubicBezTo>
                  <a:pt x="5218" y="2482"/>
                  <a:pt x="5193" y="2619"/>
                  <a:pt x="5230" y="2701"/>
                </a:cubicBezTo>
                <a:cubicBezTo>
                  <a:pt x="5243" y="2730"/>
                  <a:pt x="5288" y="2776"/>
                  <a:pt x="5308" y="2802"/>
                </a:cubicBezTo>
                <a:cubicBezTo>
                  <a:pt x="5342" y="2846"/>
                  <a:pt x="5351" y="2884"/>
                  <a:pt x="5409" y="2896"/>
                </a:cubicBezTo>
                <a:cubicBezTo>
                  <a:pt x="5466" y="2940"/>
                  <a:pt x="5526" y="3000"/>
                  <a:pt x="5588" y="3036"/>
                </a:cubicBezTo>
                <a:cubicBezTo>
                  <a:pt x="5622" y="3085"/>
                  <a:pt x="5696" y="3106"/>
                  <a:pt x="5752" y="3114"/>
                </a:cubicBezTo>
                <a:cubicBezTo>
                  <a:pt x="5824" y="3102"/>
                  <a:pt x="5897" y="3091"/>
                  <a:pt x="5970" y="3083"/>
                </a:cubicBezTo>
                <a:cubicBezTo>
                  <a:pt x="5986" y="3085"/>
                  <a:pt x="6005" y="3079"/>
                  <a:pt x="6017" y="3090"/>
                </a:cubicBezTo>
                <a:cubicBezTo>
                  <a:pt x="6051" y="3121"/>
                  <a:pt x="6072" y="3224"/>
                  <a:pt x="6094" y="3269"/>
                </a:cubicBezTo>
                <a:cubicBezTo>
                  <a:pt x="6119" y="3405"/>
                  <a:pt x="6118" y="3557"/>
                  <a:pt x="6180" y="3682"/>
                </a:cubicBezTo>
                <a:cubicBezTo>
                  <a:pt x="6213" y="3749"/>
                  <a:pt x="6265" y="3768"/>
                  <a:pt x="6320" y="3814"/>
                </a:cubicBezTo>
                <a:cubicBezTo>
                  <a:pt x="6355" y="3843"/>
                  <a:pt x="6381" y="3886"/>
                  <a:pt x="6421" y="3908"/>
                </a:cubicBezTo>
                <a:cubicBezTo>
                  <a:pt x="6531" y="3968"/>
                  <a:pt x="6623" y="4022"/>
                  <a:pt x="6740" y="4063"/>
                </a:cubicBezTo>
                <a:cubicBezTo>
                  <a:pt x="6871" y="4109"/>
                  <a:pt x="7019" y="4123"/>
                  <a:pt x="7153" y="4164"/>
                </a:cubicBezTo>
                <a:cubicBezTo>
                  <a:pt x="6982" y="4256"/>
                  <a:pt x="6852" y="4323"/>
                  <a:pt x="6655" y="4343"/>
                </a:cubicBezTo>
                <a:cubicBezTo>
                  <a:pt x="6536" y="4367"/>
                  <a:pt x="6430" y="4405"/>
                  <a:pt x="6312" y="4437"/>
                </a:cubicBezTo>
                <a:cubicBezTo>
                  <a:pt x="6242" y="4489"/>
                  <a:pt x="6155" y="4499"/>
                  <a:pt x="6071" y="4515"/>
                </a:cubicBezTo>
                <a:cubicBezTo>
                  <a:pt x="6050" y="4512"/>
                  <a:pt x="6026" y="4519"/>
                  <a:pt x="6009" y="4507"/>
                </a:cubicBezTo>
                <a:cubicBezTo>
                  <a:pt x="5989" y="4493"/>
                  <a:pt x="5985" y="4465"/>
                  <a:pt x="5970" y="4445"/>
                </a:cubicBezTo>
                <a:cubicBezTo>
                  <a:pt x="5904" y="4356"/>
                  <a:pt x="5829" y="4275"/>
                  <a:pt x="5760" y="4188"/>
                </a:cubicBezTo>
                <a:cubicBezTo>
                  <a:pt x="5738" y="4160"/>
                  <a:pt x="5706" y="4142"/>
                  <a:pt x="5674" y="4126"/>
                </a:cubicBezTo>
                <a:cubicBezTo>
                  <a:pt x="5632" y="4105"/>
                  <a:pt x="5542" y="4079"/>
                  <a:pt x="5542" y="4079"/>
                </a:cubicBezTo>
                <a:cubicBezTo>
                  <a:pt x="5414" y="4094"/>
                  <a:pt x="5276" y="4078"/>
                  <a:pt x="5160" y="4133"/>
                </a:cubicBezTo>
                <a:cubicBezTo>
                  <a:pt x="4984" y="4216"/>
                  <a:pt x="4822" y="4347"/>
                  <a:pt x="4670" y="4468"/>
                </a:cubicBezTo>
                <a:cubicBezTo>
                  <a:pt x="4507" y="4446"/>
                  <a:pt x="4363" y="4371"/>
                  <a:pt x="4203" y="4343"/>
                </a:cubicBezTo>
                <a:cubicBezTo>
                  <a:pt x="4154" y="4335"/>
                  <a:pt x="4104" y="4334"/>
                  <a:pt x="4055" y="4328"/>
                </a:cubicBezTo>
                <a:cubicBezTo>
                  <a:pt x="4003" y="4310"/>
                  <a:pt x="3950" y="4302"/>
                  <a:pt x="3899" y="4281"/>
                </a:cubicBezTo>
                <a:cubicBezTo>
                  <a:pt x="3781" y="4163"/>
                  <a:pt x="4006" y="4382"/>
                  <a:pt x="3798" y="4211"/>
                </a:cubicBezTo>
                <a:cubicBezTo>
                  <a:pt x="3789" y="4204"/>
                  <a:pt x="3790" y="4189"/>
                  <a:pt x="3783" y="4180"/>
                </a:cubicBezTo>
                <a:cubicBezTo>
                  <a:pt x="3759" y="4145"/>
                  <a:pt x="3729" y="4114"/>
                  <a:pt x="3705" y="4079"/>
                </a:cubicBezTo>
                <a:cubicBezTo>
                  <a:pt x="3564" y="3874"/>
                  <a:pt x="3594" y="3917"/>
                  <a:pt x="3502" y="3705"/>
                </a:cubicBezTo>
                <a:cubicBezTo>
                  <a:pt x="3476" y="3644"/>
                  <a:pt x="3431" y="3593"/>
                  <a:pt x="3401" y="3534"/>
                </a:cubicBezTo>
                <a:cubicBezTo>
                  <a:pt x="3369" y="3472"/>
                  <a:pt x="3346" y="3405"/>
                  <a:pt x="3323" y="3339"/>
                </a:cubicBezTo>
                <a:cubicBezTo>
                  <a:pt x="3262" y="3164"/>
                  <a:pt x="3251" y="2983"/>
                  <a:pt x="3191" y="2810"/>
                </a:cubicBezTo>
                <a:cubicBezTo>
                  <a:pt x="3167" y="2742"/>
                  <a:pt x="3094" y="2647"/>
                  <a:pt x="3051" y="2592"/>
                </a:cubicBezTo>
                <a:cubicBezTo>
                  <a:pt x="2791" y="2259"/>
                  <a:pt x="2330" y="2030"/>
                  <a:pt x="1946" y="1876"/>
                </a:cubicBezTo>
                <a:cubicBezTo>
                  <a:pt x="1921" y="1866"/>
                  <a:pt x="1894" y="1867"/>
                  <a:pt x="1868" y="1860"/>
                </a:cubicBezTo>
                <a:cubicBezTo>
                  <a:pt x="1720" y="1818"/>
                  <a:pt x="1569" y="1778"/>
                  <a:pt x="1424" y="1728"/>
                </a:cubicBezTo>
                <a:cubicBezTo>
                  <a:pt x="1361" y="1676"/>
                  <a:pt x="1303" y="1632"/>
                  <a:pt x="1222" y="1611"/>
                </a:cubicBezTo>
                <a:cubicBezTo>
                  <a:pt x="1032" y="1439"/>
                  <a:pt x="901" y="1368"/>
                  <a:pt x="646" y="1355"/>
                </a:cubicBezTo>
                <a:cubicBezTo>
                  <a:pt x="691" y="1346"/>
                  <a:pt x="694" y="1341"/>
                  <a:pt x="708" y="1300"/>
                </a:cubicBezTo>
                <a:cubicBezTo>
                  <a:pt x="718" y="1222"/>
                  <a:pt x="748" y="1107"/>
                  <a:pt x="700" y="1035"/>
                </a:cubicBezTo>
                <a:cubicBezTo>
                  <a:pt x="702" y="1023"/>
                  <a:pt x="712" y="961"/>
                  <a:pt x="716" y="958"/>
                </a:cubicBezTo>
                <a:cubicBezTo>
                  <a:pt x="760" y="930"/>
                  <a:pt x="807" y="926"/>
                  <a:pt x="856" y="919"/>
                </a:cubicBezTo>
                <a:cubicBezTo>
                  <a:pt x="907" y="902"/>
                  <a:pt x="955" y="891"/>
                  <a:pt x="996" y="856"/>
                </a:cubicBezTo>
                <a:cubicBezTo>
                  <a:pt x="1024" y="832"/>
                  <a:pt x="1058" y="795"/>
                  <a:pt x="1097" y="786"/>
                </a:cubicBezTo>
                <a:cubicBezTo>
                  <a:pt x="1203" y="762"/>
                  <a:pt x="1315" y="774"/>
                  <a:pt x="1424" y="771"/>
                </a:cubicBezTo>
                <a:cubicBezTo>
                  <a:pt x="1611" y="747"/>
                  <a:pt x="1797" y="762"/>
                  <a:pt x="1985" y="771"/>
                </a:cubicBezTo>
                <a:cubicBezTo>
                  <a:pt x="2129" y="766"/>
                  <a:pt x="2188" y="763"/>
                  <a:pt x="2311" y="779"/>
                </a:cubicBezTo>
                <a:cubicBezTo>
                  <a:pt x="2376" y="811"/>
                  <a:pt x="2436" y="824"/>
                  <a:pt x="2506" y="841"/>
                </a:cubicBezTo>
                <a:cubicBezTo>
                  <a:pt x="2535" y="848"/>
                  <a:pt x="2563" y="858"/>
                  <a:pt x="2592" y="864"/>
                </a:cubicBezTo>
                <a:cubicBezTo>
                  <a:pt x="2634" y="873"/>
                  <a:pt x="2622" y="862"/>
                  <a:pt x="2638" y="88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8"/>
          </p:nvPr>
        </p:nvSpPr>
        <p:spPr>
          <a:xfrm>
            <a:off x="7238880" y="6489360"/>
            <a:ext cx="1595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8385-022A-4BC4-A0EA-A087DBB73B9B}" type="slidenum">
              <a:rPr b="0" lang="pt-BR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Marina.gil@cepal.or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90160" y="1742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Microsoft Sans Serif"/>
              </a:rPr>
              <a:t>CEPAL</a:t>
            </a:r>
            <a:br>
              <a:rPr sz="2400"/>
            </a:br>
            <a:r>
              <a:rPr b="0" lang="pt-BR" sz="2400" spc="-1" strike="noStrike">
                <a:solidFill>
                  <a:srgbClr val="000099"/>
                </a:solidFill>
                <a:latin typeface="Microsoft Sans Serif"/>
              </a:rPr>
              <a:t>Reformas de Agua Potável e Saneamento na América Latina e Caribe: Lições aprendidas</a:t>
            </a:r>
            <a:endParaRPr b="0" lang="en-US" sz="24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-360" y="5950080"/>
            <a:ext cx="4824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Microsoft Sans Serif"/>
              </a:rPr>
              <a:t>ONU CEPAL, Santiago - Chile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Microsoft Sans Serif"/>
              </a:rPr>
              <a:t>Sexta-feira, 10 Maio 2019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107000" y="1287360"/>
            <a:ext cx="64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Relatório da Missão do PNQS ao CHILE 20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tângulo 10"/>
          <p:cNvSpPr/>
          <p:nvPr/>
        </p:nvSpPr>
        <p:spPr>
          <a:xfrm>
            <a:off x="5651640" y="3284640"/>
            <a:ext cx="2233440" cy="1512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Microsoft Sans Serif"/>
              </a:rPr>
              <a:t>Fotos op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Imagem 7" descr=""/>
          <p:cNvPicPr/>
          <p:nvPr/>
        </p:nvPicPr>
        <p:blipFill>
          <a:blip r:embed="rId1"/>
          <a:stretch/>
        </p:blipFill>
        <p:spPr>
          <a:xfrm>
            <a:off x="3995640" y="-28440"/>
            <a:ext cx="1166760" cy="10094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9" descr=""/>
          <p:cNvPicPr/>
          <p:nvPr/>
        </p:nvPicPr>
        <p:blipFill>
          <a:blip r:embed="rId2"/>
          <a:stretch/>
        </p:blipFill>
        <p:spPr>
          <a:xfrm>
            <a:off x="179280" y="3206880"/>
            <a:ext cx="5299200" cy="22906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"/>
          <p:cNvPicPr/>
          <p:nvPr/>
        </p:nvPicPr>
        <p:blipFill>
          <a:blip r:embed="rId3"/>
          <a:stretch/>
        </p:blipFill>
        <p:spPr>
          <a:xfrm>
            <a:off x="5651640" y="3070080"/>
            <a:ext cx="2449440" cy="37116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1" descr=""/>
          <p:cNvPicPr/>
          <p:nvPr/>
        </p:nvPicPr>
        <p:blipFill>
          <a:blip r:embed="rId4"/>
          <a:stretch/>
        </p:blipFill>
        <p:spPr>
          <a:xfrm>
            <a:off x="8244000" y="709560"/>
            <a:ext cx="790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-181080" y="17640"/>
            <a:ext cx="932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Microsoft Sans Serif"/>
              </a:rPr>
              <a:t>Por que o Chile privatizou o Saneame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59840" y="931680"/>
            <a:ext cx="864252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 algn="just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Microsoft Sans Serif"/>
              </a:rPr>
              <a:t>Precisavam aumentar a cobertura de tratamento de esgoto;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40400" indent="-140400" algn="just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Microsoft Sans Serif"/>
              </a:rPr>
              <a:t>O Chile precisava levantar fundos para outras áreas do Estado;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40400" indent="-140400" algn="just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Microsoft Sans Serif"/>
              </a:rPr>
              <a:t>O clima político era favorável. Havia um sentimento de que empresas privadas eram mais eficientes do que as públicas;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40400" indent="-140400" algn="just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Microsoft Sans Serif"/>
              </a:rPr>
              <a:t>Empresas privadas poderiam ter acesso mais fácil a financiamentos externos;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40400" indent="-140400" algn="just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Microsoft Sans Serif"/>
              </a:rPr>
              <a:t>A iniciativa privada poderia acelerar os investimentos necessários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40400" indent="-140400" algn="just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Microsoft Sans Serif"/>
              </a:rPr>
              <a:t>Não endividar o Estado.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40400" indent="-140400" algn="just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40400" indent="-140400" algn="just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140400" indent="-140400" algn="just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38" name="Picture 11" descr=""/>
          <p:cNvPicPr/>
          <p:nvPr/>
        </p:nvPicPr>
        <p:blipFill>
          <a:blip r:embed="rId1"/>
          <a:stretch/>
        </p:blipFill>
        <p:spPr>
          <a:xfrm>
            <a:off x="8172360" y="5661000"/>
            <a:ext cx="790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159840" y="932040"/>
            <a:ext cx="864252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 algn="just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Necessidade de ter uma regulação efetiva;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92520" indent="-92520" algn="just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Marco regulatório: É importante que a regulação seja feita por lei e não por contrato;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92520" indent="-92520" algn="just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Necessidade de alcançar o autofinanciamento (a receita da empresa de saneamento deve bancar os investimentos necessários) com as tarifas estabelecidas.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92520" indent="-92520" algn="just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Órgão de fiscalização bem organizado, com definição clara de seu papel e grau de independência adequado.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92520" indent="-92520" algn="just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Ter base de dados confiáveis (comercial e infraestrutura);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92520" indent="-92520" algn="just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Preocupação com negócios não regulamentados (como separar custos e ganhos dos negócios regulamentados?);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92520" indent="-92520" algn="just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Dúvidas sobre a Comissão de Especialistas. Exemplo: 3 especialistas são suficientes para determinar rumos do saneamento? Eles são neutros?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40" name="Picture 11" descr=""/>
          <p:cNvPicPr/>
          <p:nvPr/>
        </p:nvPicPr>
        <p:blipFill>
          <a:blip r:embed="rId1"/>
          <a:stretch/>
        </p:blipFill>
        <p:spPr>
          <a:xfrm>
            <a:off x="8185320" y="122400"/>
            <a:ext cx="790560" cy="80964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2"/>
          <p:cNvSpPr/>
          <p:nvPr/>
        </p:nvSpPr>
        <p:spPr>
          <a:xfrm>
            <a:off x="-181080" y="17640"/>
            <a:ext cx="932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Microsoft Sans Serif"/>
              </a:rPr>
              <a:t>Andrei S. Jouravle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458040" cy="44640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2"/>
          <p:cNvSpPr/>
          <p:nvPr/>
        </p:nvSpPr>
        <p:spPr>
          <a:xfrm>
            <a:off x="-181080" y="17640"/>
            <a:ext cx="932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Microsoft Sans Serif"/>
              </a:rPr>
              <a:t>Diferenças entre cenários Chile x Argen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Microsoft Sans Serif"/>
              </a:rPr>
              <a:t>na época da privat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178920" y="5443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Microsoft Sans Serif"/>
              </a:rPr>
              <a:t>Magaly Espinosa, José LuizSzczaranki e 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Microsoft Sans Serif"/>
              </a:rPr>
              <a:t>Andrei S. Jouravlev respondem às dúvidas dos participantes da missão. </a:t>
            </a: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000080" y="1197000"/>
            <a:ext cx="6962760" cy="395748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2"/>
          <p:cNvSpPr/>
          <p:nvPr/>
        </p:nvSpPr>
        <p:spPr>
          <a:xfrm>
            <a:off x="-181080" y="17640"/>
            <a:ext cx="932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Microsoft Sans Serif"/>
              </a:rPr>
              <a:t>Painel de Especi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108000" y="90756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Investimentos no setor rural são realizados pelo Estado e passam a operação para as comunidades e/ou associações;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Existência de subsídios bancados pelo governo, repassados diretamente para as empresas;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Existe um “gap” em relação ao ritmo de renovação de infraestrutura. Esse é um novo desafio que vem se desenhando na estrutura de saneamento do Chile. O aumento do índice de perdas dos últimos anos pode ser visto como reflexo disso.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Outro desafio é adequar a regulação do saneamento para fazer frente às mudanças climáticas (exemplo: plantas dessalinizadoras);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Desafio – aumentar a participação cidadã nas discussões – Vale destacar que a agência regulamentadora não é entendida como um órgão que representa a sociedade e sim que serve para equilibrar os interesses entre os atores do setor (empresas, consumidores, estado, etc.)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08520" indent="-30852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08520" indent="-30852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08520" indent="-30852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08520" indent="-30852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-173160" y="115920"/>
            <a:ext cx="932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Microsoft Sans Serif"/>
              </a:rPr>
              <a:t>Painel de Especialistas - Principais aspectos discut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159840" y="1125360"/>
            <a:ext cx="86425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No Chile - as regras de regulamentação são as mesmas para qualquer empresa;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O que são melhores: empresas públicas ou privadas?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Ambas podem ser eficientes dependendo do ambiente em que se encontram (instituições sólidas, marco regulatório bem elaborado, estabilidade das regras do mercado, estado não corrompido, etc.)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50" name="Picture 11" descr=""/>
          <p:cNvPicPr/>
          <p:nvPr/>
        </p:nvPicPr>
        <p:blipFill>
          <a:blip r:embed="rId1"/>
          <a:stretch/>
        </p:blipFill>
        <p:spPr>
          <a:xfrm>
            <a:off x="8185320" y="122400"/>
            <a:ext cx="790560" cy="80964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2"/>
          <p:cNvSpPr/>
          <p:nvPr/>
        </p:nvSpPr>
        <p:spPr>
          <a:xfrm>
            <a:off x="-173160" y="115920"/>
            <a:ext cx="932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Microsoft Sans Serif"/>
              </a:rPr>
              <a:t>Painel de Especialistas - Principais aspectos discut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5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746920" cy="3534120"/>
          </a:xfrm>
          <a:prstGeom prst="rect">
            <a:avLst/>
          </a:prstGeom>
          <a:ln w="0">
            <a:noFill/>
          </a:ln>
        </p:spPr>
      </p:pic>
      <p:sp>
        <p:nvSpPr>
          <p:cNvPr id="553" name="CaixaDeTexto 1"/>
          <p:cNvSpPr/>
          <p:nvPr/>
        </p:nvSpPr>
        <p:spPr>
          <a:xfrm>
            <a:off x="175320" y="5157720"/>
            <a:ext cx="858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articipantes da Missão visitam a sala de conferênc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as Nações Unidas na CE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49440" y="15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Microsoft Sans Serif"/>
              </a:rPr>
              <a:t>Grupo 6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pic>
        <p:nvPicPr>
          <p:cNvPr id="509" name="Picture 199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6953400" cy="3673440"/>
          </a:xfrm>
          <a:prstGeom prst="rect">
            <a:avLst/>
          </a:prstGeom>
          <a:ln w="0">
            <a:noFill/>
          </a:ln>
        </p:spPr>
      </p:pic>
      <p:sp>
        <p:nvSpPr>
          <p:cNvPr id="510" name="Retângulo de cantos arredondados 10"/>
          <p:cNvSpPr/>
          <p:nvPr/>
        </p:nvSpPr>
        <p:spPr>
          <a:xfrm>
            <a:off x="3325680" y="3670200"/>
            <a:ext cx="4319640" cy="576360"/>
          </a:xfrm>
          <a:prstGeom prst="roundRect">
            <a:avLst>
              <a:gd name="adj" fmla="val 16667"/>
            </a:avLst>
          </a:prstGeom>
          <a:solidFill>
            <a:srgbClr val="00997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Da esquerda para direita: Alberto, Jucimara, Baulio, Eduardo, Thais, e Marcio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770040" y="4290840"/>
          <a:ext cx="7547040" cy="2506680"/>
        </p:xfrm>
        <a:graphic>
          <a:graphicData uri="http://schemas.openxmlformats.org/drawingml/2006/table">
            <a:tbl>
              <a:tblPr/>
              <a:tblGrid>
                <a:gridCol w="1857240"/>
                <a:gridCol w="3313080"/>
                <a:gridCol w="2376720"/>
              </a:tblGrid>
              <a:tr h="41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N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Empr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53880"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berto Prado Cunh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besp MCJ - UGR Jardin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cunha@sabesp.com.b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aulio Lozano Le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NEPAR URCP/GRCP - Unidade Regional Cornélio Procóp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eonel@sanepar.com.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duardo  Bacigaluz Guimarã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RSAN – SURSUL Superintendência Regional Su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duardo.guimaraes@corsan.com.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cimara Pimentel Cast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besp 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pcastro@sabesp.com.b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árcio Barbeto Menez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besp MCR -UGR Ipirang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bmenezes@sabesp.com.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ais Santos Viei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mbasa UMC - UR Camaç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6640" rIns="2664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ais.vieira@embasa.ba.gov.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6640" marR="26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99"/>
                </a:solidFill>
                <a:latin typeface="Microsoft Sans Serif"/>
              </a:rPr>
              <a:t>Apresentadores/Contatos</a:t>
            </a:r>
            <a:endParaRPr b="0" lang="en-US" sz="36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Jeannette Sánchez – Diretora Divisão de Recursos Naturais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Marina Gil Sevilla </a:t>
            </a:r>
            <a:r>
              <a:rPr b="0" lang="pt-BR" sz="2000" spc="-1" strike="noStrike" u="sng">
                <a:solidFill>
                  <a:srgbClr val="ccccff"/>
                </a:solidFill>
                <a:uFillTx/>
                <a:latin typeface="Microsoft Sans Serif"/>
                <a:hlinkClick r:id="rId1"/>
              </a:rPr>
              <a:t>–</a:t>
            </a: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 marina.gil@cepal.org – oficial da Divisão de Recursos Naturais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Andrei S. Jouravlev  -ajouravlev@yahoo.com (Oficial da ONU ex-oficial de Asuntos Económicos da Divisão de Recursos Naturais recém aposentado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Jose Luis Szczaranki  - Ex-superint. SISS - Debate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icrosoft Sans Serif"/>
              </a:rPr>
              <a:t>Magaly Espinosa – Ex- Diretor DGA - Debate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14" name="Picture 11" descr=""/>
          <p:cNvPicPr/>
          <p:nvPr/>
        </p:nvPicPr>
        <p:blipFill>
          <a:blip r:embed="rId2"/>
          <a:stretch/>
        </p:blipFill>
        <p:spPr>
          <a:xfrm>
            <a:off x="8101080" y="549360"/>
            <a:ext cx="790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685800" y="17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Microsoft Sans Serif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250920" y="113148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CEPAL – Comissão Econômica para a América Latina e o Caribe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Uma das 05 comissões da ONU que tem como mandato o estudo e a promoção de políticas para o desenvolvimento da região, estimulando cooperação entre os países e o resto do mundo, que funciona como um centro de excelência de  altos estudos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Todos os países da América do Sul e Caribe são membros da CEPAL, junto com outras nações. 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Incluindo desta forma o Chile e o Brasil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17" name="Picture 11" descr=""/>
          <p:cNvPicPr/>
          <p:nvPr/>
        </p:nvPicPr>
        <p:blipFill>
          <a:blip r:embed="rId1"/>
          <a:stretch/>
        </p:blipFill>
        <p:spPr>
          <a:xfrm>
            <a:off x="8185320" y="122400"/>
            <a:ext cx="790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-181080" y="17640"/>
            <a:ext cx="932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Microsoft Sans Serif"/>
              </a:rPr>
              <a:t>CEPAL – Dra. Jeannette Sánc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59840" y="956880"/>
            <a:ext cx="864252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just">
              <a:spcBef>
                <a:spcPts val="57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Microsoft Sans Serif"/>
              </a:rPr>
              <a:t>Tema apresentado: “Reformas de Agua Potável e Saneamento em América Latina e Caribe: Lições aprendidas.”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marL="222840" indent="-222840" algn="just">
              <a:spcBef>
                <a:spcPts val="57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Microsoft Sans Serif"/>
              </a:rPr>
              <a:t>Abertura realizada por </a:t>
            </a:r>
            <a:r>
              <a:rPr b="1" lang="pt-BR" sz="2300" spc="-1" strike="noStrike">
                <a:solidFill>
                  <a:srgbClr val="000000"/>
                </a:solidFill>
                <a:latin typeface="Microsoft Sans Serif"/>
              </a:rPr>
              <a:t>Dra. Jeannette Sánchez </a:t>
            </a:r>
            <a:r>
              <a:rPr b="0" lang="pt-BR" sz="2300" spc="-1" strike="noStrike">
                <a:solidFill>
                  <a:srgbClr val="000000"/>
                </a:solidFill>
                <a:latin typeface="Microsoft Sans Serif"/>
              </a:rPr>
              <a:t>- diretora geral de divisão de recursos naturais (CEPAL)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marL="222840" indent="-222840" algn="just">
              <a:spcBef>
                <a:spcPts val="57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Microsoft Sans Serif"/>
              </a:rPr>
              <a:t>O objetivo desta divisão é não somente com relação a água, mas outros recursos naturais  sobretudo os sistemas de governança, seus usos e os serviços de agua potável para atendimento a população.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marL="222840" indent="-222840" algn="just">
              <a:spcBef>
                <a:spcPts val="57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Microsoft Sans Serif"/>
              </a:rPr>
              <a:t>Água, energia, extração de minerais e biodiversidade (como fazer a interação entre eles). 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marL="222840" indent="-222840" algn="just">
              <a:spcBef>
                <a:spcPts val="57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Microsoft Sans Serif"/>
              </a:rPr>
              <a:t>Devemos pensar em determinar pontos de inflexão sobre a água e o saneamento (possíveis mudanças de rumo ao invés de melhorias incrementais).</a:t>
            </a: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  <a:p>
            <a:pPr marL="222840" indent="-222840" algn="just">
              <a:spcBef>
                <a:spcPts val="57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20" name="Picture 11" descr=""/>
          <p:cNvPicPr/>
          <p:nvPr/>
        </p:nvPicPr>
        <p:blipFill>
          <a:blip r:embed="rId1"/>
          <a:stretch/>
        </p:blipFill>
        <p:spPr>
          <a:xfrm>
            <a:off x="8101080" y="122400"/>
            <a:ext cx="790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159840" y="836280"/>
            <a:ext cx="864252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Saúde pública –  Haviam problemas sociais – e é muito importante os controles sanitários, para maior tranquilidade social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Compromisso de acompanhar os países, com diálogo político e possibilidade de construir mais conhecimento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Países tem avançado no aproveitamento dos recursos naturais e hídricos. 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Marcos regulatórios são de grande importância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Necessidade de acompanhar as mudanças climáticas e grandes tecnologias desenvolvidas com velocidade cada vez maior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22" name="Picture 11" descr=""/>
          <p:cNvPicPr/>
          <p:nvPr/>
        </p:nvPicPr>
        <p:blipFill>
          <a:blip r:embed="rId1"/>
          <a:stretch/>
        </p:blipFill>
        <p:spPr>
          <a:xfrm>
            <a:off x="8185320" y="122400"/>
            <a:ext cx="790560" cy="80964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"/>
          <p:cNvSpPr/>
          <p:nvPr/>
        </p:nvSpPr>
        <p:spPr>
          <a:xfrm>
            <a:off x="-181080" y="17640"/>
            <a:ext cx="932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Microsoft Sans Serif"/>
              </a:rPr>
              <a:t>CEPAL – Dra. Jeannette Sánch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-181080" y="17640"/>
            <a:ext cx="932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Microsoft Sans Serif"/>
              </a:rPr>
              <a:t>Cenário mundial do Sane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59840" y="931680"/>
            <a:ext cx="864252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Marina Gil Sevilla – Representante da Divisão Recursos Naturais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Comentou sobre o cenário mundial com relação ao saneamento. 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26" name="Picture 11" descr=""/>
          <p:cNvPicPr/>
          <p:nvPr/>
        </p:nvPicPr>
        <p:blipFill>
          <a:blip r:embed="rId1"/>
          <a:stretch/>
        </p:blipFill>
        <p:spPr>
          <a:xfrm>
            <a:off x="8185320" y="122400"/>
            <a:ext cx="790560" cy="8096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1252440" y="2519280"/>
            <a:ext cx="64580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-181080" y="17640"/>
            <a:ext cx="932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Microsoft Sans Serif"/>
              </a:rPr>
              <a:t>Água Potável – Brasil 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59840" y="931680"/>
            <a:ext cx="864252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icrosoft Sans Serif"/>
              </a:rPr>
              <a:t>Marina Gil Sevilla – Representante da divisão recursos naturais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1454040" y="2276640"/>
            <a:ext cx="6181920" cy="41335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1" descr=""/>
          <p:cNvPicPr/>
          <p:nvPr/>
        </p:nvPicPr>
        <p:blipFill>
          <a:blip r:embed="rId2"/>
          <a:stretch/>
        </p:blipFill>
        <p:spPr>
          <a:xfrm>
            <a:off x="8185320" y="122400"/>
            <a:ext cx="790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-181080" y="17640"/>
            <a:ext cx="932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Microsoft Sans Serif"/>
              </a:rPr>
              <a:t>Conteúdo apresentado – Andrei S. Jouravl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59840" y="931680"/>
            <a:ext cx="864252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Microsoft Sans Serif"/>
              </a:rPr>
              <a:t>Andrei S. Jouravlev – </a:t>
            </a:r>
            <a:r>
              <a:rPr b="0" lang="es-ES" sz="2800" spc="-1" strike="noStrike">
                <a:solidFill>
                  <a:srgbClr val="000000"/>
                </a:solidFill>
                <a:latin typeface="Microsoft Sans Serif"/>
              </a:rPr>
              <a:t>Ex Oficial para Asuntos Económicos (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Microsoft Sans Serif"/>
              </a:rPr>
              <a:t>aposentado</a:t>
            </a:r>
            <a:r>
              <a:rPr b="0" lang="es-ES" sz="2800" spc="-1" strike="noStrike">
                <a:solidFill>
                  <a:srgbClr val="000000"/>
                </a:solidFill>
                <a:latin typeface="Microsoft Sans Serif"/>
              </a:rPr>
              <a:t>), División de Recursos Naturales</a:t>
            </a:r>
            <a:r>
              <a:rPr b="0" lang="pt-BR" sz="28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4" name="Retângulo 1"/>
          <p:cNvSpPr/>
          <p:nvPr/>
        </p:nvSpPr>
        <p:spPr>
          <a:xfrm>
            <a:off x="366840" y="2316240"/>
            <a:ext cx="4114800" cy="4300560"/>
          </a:xfrm>
          <a:prstGeom prst="rect">
            <a:avLst/>
          </a:prstGeom>
          <a:solidFill>
            <a:srgbClr val="19196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Microsoft Sans Serif"/>
              </a:rPr>
              <a:t>Reformas setoriais</a:t>
            </a:r>
            <a:r>
              <a:rPr b="0" lang="es-ES" sz="2400" spc="-1" strike="noStrike">
                <a:solidFill>
                  <a:srgbClr val="ffffff"/>
                </a:solidFill>
                <a:latin typeface="Microsoft Sans Serif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Microsoft Sans Serif"/>
                <a:ea typeface="Times New Roman"/>
              </a:rPr>
              <a:t>Diretrizes de políticas públ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Microsoft Sans Serif"/>
                <a:ea typeface="Times New Roman"/>
              </a:rPr>
              <a:t>Políticas regulament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Microsoft Sans Serif"/>
              </a:rPr>
              <a:t>Reformas</a:t>
            </a:r>
            <a:r>
              <a:rPr b="0" lang="es-ES" sz="2400" spc="-1" strike="noStrike">
                <a:solidFill>
                  <a:srgbClr val="ffffff"/>
                </a:solidFill>
                <a:latin typeface="Microsoft Sans Serif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Microsoft Sans Serif"/>
                <a:ea typeface="Times New Roman"/>
              </a:rPr>
              <a:t>Políticas tarifá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Microsoft Sans Serif"/>
                <a:ea typeface="Times New Roman"/>
              </a:rPr>
              <a:t>Políticas de subsí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tângulo 7"/>
          <p:cNvSpPr/>
          <p:nvPr/>
        </p:nvSpPr>
        <p:spPr>
          <a:xfrm>
            <a:off x="4716360" y="2316240"/>
            <a:ext cx="4114800" cy="4300560"/>
          </a:xfrm>
          <a:prstGeom prst="rect">
            <a:avLst/>
          </a:prstGeom>
          <a:solidFill>
            <a:srgbClr val="191966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Microsoft Sans Serif"/>
              </a:rPr>
              <a:t>Experiência do Ch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Microsoft Sans Serif"/>
                <a:ea typeface="Times New Roman"/>
              </a:rPr>
              <a:t>Como ocorreu a privatização no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Microsoft Sans Serif"/>
                <a:ea typeface="Times New Roman"/>
              </a:rPr>
              <a:t>Avanços e desafios pend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Microsoft Sans Serif"/>
              </a:rPr>
              <a:t>Temas de trabalho para o futu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Microsoft Sans Serif"/>
                <a:ea typeface="Times New Roman"/>
              </a:rPr>
              <a:t>Integração entre água, energia e  agri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38:41Z</dcterms:created>
  <dc:creator>X</dc:creator>
  <dc:description/>
  <dc:language>en-US</dc:language>
  <cp:lastModifiedBy>Carlos Schauff</cp:lastModifiedBy>
  <dcterms:modified xsi:type="dcterms:W3CDTF">2019-05-13T13:31:08Z</dcterms:modified>
  <cp:revision>155</cp:revision>
  <dc:subject/>
  <dc:title>Apresentação do PowerPoint</dc:title>
</cp:coreProperties>
</file>